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86E-A3B6-470E-B4B2-C206EA1D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579-77CD-4481-9BEC-3B3F69A0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44D-3FFD-4970-B1A4-73CBFF25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99F-CF22-41F4-B4EB-59EE55CB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E9F-E68F-4FA1-9458-54AE329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D30-8FCB-48F2-A2E5-3205C6A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8AC-54A4-4B78-995F-6067E11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BBA-3596-4F52-9E9C-79EBBBE2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616-B50C-4DE1-80EF-35F90864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F30-5EF0-4071-9079-8456CE77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F55-B87B-45F7-8BFC-2E682D71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F3E-B03A-4C4F-8EB8-0CF13C7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DC77-F6C9-44A4-A0ED-15E7AC79F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628640"/>
            <a:ext cx="7867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he opening ceremony 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476360" y="1700280"/>
            <a:ext cx="5759640" cy="2665440"/>
            <a:chOff x="1476360" y="1700280"/>
            <a:chExt cx="5759640" cy="2665440"/>
          </a:xfrm>
        </p:grpSpPr>
        <p:sp>
          <p:nvSpPr>
            <p:cNvPr id="43" name=""/>
            <p:cNvSpPr/>
            <p:nvPr/>
          </p:nvSpPr>
          <p:spPr>
            <a:xfrm rot="10800000">
              <a:off x="1476360" y="1700280"/>
              <a:ext cx="1440000" cy="26654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7280" y="1700280"/>
              <a:ext cx="1368720" cy="26654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16360" y="1700280"/>
              <a:ext cx="2950920" cy="26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708360" y="1268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126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4869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x 70 = A = 6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6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63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537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of circle = 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of circle = 3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236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 x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= A of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= 3848.451 (to 3 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148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8728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59280" y="191592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3213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rea = 10,148.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763640" y="1197000"/>
            <a:ext cx="4321080" cy="3744720"/>
            <a:chOff x="1763640" y="1197000"/>
            <a:chExt cx="4321080" cy="3744720"/>
          </a:xfrm>
        </p:grpSpPr>
        <p:sp>
          <p:nvSpPr>
            <p:cNvPr id="61" name=""/>
            <p:cNvSpPr/>
            <p:nvPr/>
          </p:nvSpPr>
          <p:spPr>
            <a:xfrm>
              <a:off x="2484360" y="1628640"/>
              <a:ext cx="3600360" cy="33116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56000" y="155736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40000" y="1700280"/>
              <a:ext cx="0" cy="32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24360" y="119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63640" y="2997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1989000"/>
              <a:ext cx="1008000" cy="10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16360" y="3573360"/>
              <a:ext cx="100800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16360" y="1989000"/>
              <a:ext cx="1008000" cy="10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71640" y="3645000"/>
              <a:ext cx="100836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43280" y="2276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71640" y="5373720"/>
            <a:ext cx="61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,000 people take up 3,000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,000 x 0.25 = 3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rea = 10,148.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162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can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836640"/>
            <a:ext cx="763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number of people is 40,593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,593 x 0.25 = 10,148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7636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area = 10,148.4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3:09Z</dcterms:created>
  <dc:creator>HewittH</dc:creator>
  <dc:description/>
  <dc:language>en-US</dc:language>
  <cp:lastModifiedBy>HewittH</cp:lastModifiedBy>
  <dcterms:modified xsi:type="dcterms:W3CDTF">2010-03-17T09:56:40Z</dcterms:modified>
  <cp:revision>2</cp:revision>
  <dc:subject/>
  <dc:title>Slide 1</dc:title>
</cp:coreProperties>
</file>